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1.wmf" ContentType="image/x-wmf"/>
  <Override PartName="/ppt/media/image15.png" ContentType="image/png"/>
  <Override PartName="/ppt/media/image29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525-9BF2-463A-BEC2-1AFA19F6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2C9-2793-45BF-8675-C33CC4EC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022-DDB1-4CA9-B9FC-C5776B3D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43D-16D4-41E1-8FF1-24DDA255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CEA-550F-4F6A-B61F-17411F64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748-CBF4-47C8-ACB2-D2EA84EB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B7C-1944-421F-9993-EAC4B3F3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3F7-6B77-42F2-B320-5CB04A9D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186-30D9-492E-B5FD-DF445764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783-2017-4F82-BFC5-FBF5414D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9B0-370F-445E-96E8-80F8D5C7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F55-7C6A-4392-96DF-656C6F16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1599-898C-4835-92A1-852141254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6324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ao!  Mi chiamo ………  E tu, Come ti chia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acere, 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to piac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505320"/>
            <a:ext cx="2819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 anni ha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dove se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 fa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sta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3200400"/>
            <a:ext cx="457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 15 an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canad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stud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 bene, graz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c’e’ male grazi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4952880"/>
            <a:ext cx="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743200" y="34290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09680" y="403812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905120" y="4572000"/>
            <a:ext cx="1904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1066680"/>
            <a:ext cx="2743200" cy="1143000"/>
          </a:xfrm>
          <a:prstGeom prst="wedgeEllipseCallout">
            <a:avLst>
              <a:gd name="adj1" fmla="val -60416"/>
              <a:gd name="adj2" fmla="val 552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STA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2362320"/>
            <a:ext cx="3048120" cy="761760"/>
          </a:xfrm>
          <a:prstGeom prst="wedgeRoundRectCallout">
            <a:avLst>
              <a:gd name="adj1" fmla="val 42291"/>
              <a:gd name="adj2" fmla="val 954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gior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4114800"/>
            <a:ext cx="2209680" cy="1600200"/>
          </a:xfrm>
          <a:prstGeom prst="wedgeRectCallout">
            <a:avLst>
              <a:gd name="adj1" fmla="val -21481"/>
              <a:gd name="adj2" fmla="val -91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EDIA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A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ES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304920"/>
            <a:ext cx="495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514600" y="457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267080" y="457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943600" y="457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7772400" y="533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7848720" y="3352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248520" y="3352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42670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24382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743200" cy="1676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781680" y="2438280"/>
            <a:ext cx="1690920" cy="293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095560" cy="2463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267080" y="228600"/>
            <a:ext cx="1746360" cy="178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191120" y="4572000"/>
            <a:ext cx="2501640" cy="187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14800" y="2057400"/>
            <a:ext cx="2133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ENZI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057400"/>
            <a:ext cx="2895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U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429000"/>
            <a:ext cx="2895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UTO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895480"/>
            <a:ext cx="1905120" cy="1447920"/>
          </a:xfrm>
          <a:prstGeom prst="wedgeEllipseCallout">
            <a:avLst>
              <a:gd name="adj1" fmla="val 4025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A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AN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1143000"/>
            <a:ext cx="2133720" cy="990720"/>
          </a:xfrm>
          <a:prstGeom prst="wedgeRectCallout">
            <a:avLst>
              <a:gd name="adj1" fmla="val -222"/>
              <a:gd name="adj2" fmla="val 945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ZI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2514600"/>
            <a:ext cx="41148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 scusi, signore, mi sa dire dov’e’ piazza san Pietr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to.  E’ laggiu’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z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3048120"/>
            <a:ext cx="2743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ongiorno, sa dirmi l’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o le dieci e mez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zie e arrivederci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5105520"/>
            <a:ext cx="4419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 favore, sa dirmi a che ora parte il tren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e alle nove e un quar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lte grazi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638680" y="533520"/>
          <a:ext cx="2438640" cy="18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33520"/>
                    <a:ext cx="243864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 txBox="1"/>
          <p:nvPr/>
        </p:nvSpPr>
        <p:spPr>
          <a:xfrm>
            <a:off x="838080" y="685800"/>
            <a:ext cx="3810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/>
                  </a:outerShdw>
                </a:effectLst>
                <a:latin typeface="Andy"/>
              </a:rPr>
              <a:t>Per strad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/>
                </a:outerShdw>
              </a:effectLst>
              <a:latin typeface="Andy"/>
              <a:ea typeface="Andy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76176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2666880" y="2819520"/>
          <a:ext cx="162576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2819520"/>
                    <a:ext cx="16257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 txBox="1"/>
          <p:nvPr/>
        </p:nvSpPr>
        <p:spPr>
          <a:xfrm>
            <a:off x="3505320" y="3505320"/>
            <a:ext cx="63324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ndy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ndy"/>
              <a:ea typeface="Andy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238880" y="3581280"/>
          <a:ext cx="1206720" cy="115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38880" y="3581280"/>
                    <a:ext cx="12067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447920" y="5410080"/>
          <a:ext cx="1944720" cy="968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47920" y="5410080"/>
                    <a:ext cx="19447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80880"/>
            <a:ext cx="1905120" cy="60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o le dieci di mattina e andiamo a visitare il museo del Vaticano.  Il museo e’ grande e molto bello ma per arrivare li dobbiamo prendere l’autobus.  Saliamo sull’autobus e timbriamo il biglietto.  Arriviamo al museo alle dieci: paghiamo il biglietto e entriamo nel muse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 sono molte belle cose da vedere e siamo molto contenti.  Il museo chiude alle cinque e mezza.  Noi, dopo il museo, andiamo al ristorante per la ce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80880"/>
            <a:ext cx="327636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380880"/>
            <a:ext cx="23623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209680"/>
            <a:ext cx="3200400" cy="40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3809880"/>
            <a:ext cx="22860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228600"/>
            <a:ext cx="2057400" cy="990720"/>
          </a:xfrm>
          <a:prstGeom prst="wedgeRectCallout">
            <a:avLst>
              <a:gd name="adj1" fmla="val -39583"/>
              <a:gd name="adj2" fmla="val 70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228600"/>
            <a:ext cx="2895480" cy="838080"/>
          </a:xfrm>
          <a:prstGeom prst="wedgeRoundRectCallout">
            <a:avLst>
              <a:gd name="adj1" fmla="val 26152"/>
              <a:gd name="adj2" fmla="val 10132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gior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304920"/>
            <a:ext cx="2666880" cy="1143000"/>
          </a:xfrm>
          <a:prstGeom prst="wedgeEllipseCallout">
            <a:avLst>
              <a:gd name="adj1" fmla="val -65296"/>
              <a:gd name="adj2" fmla="val 347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aser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371600"/>
            <a:ext cx="2666880" cy="1143000"/>
          </a:xfrm>
          <a:prstGeom prst="wedgeEllipseCallout">
            <a:avLst>
              <a:gd name="adj1" fmla="val 55537"/>
              <a:gd name="adj2" fmla="val 4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 pomeriggi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743200"/>
            <a:ext cx="2895840" cy="533520"/>
          </a:xfrm>
          <a:prstGeom prst="wedgeRoundRectCallout">
            <a:avLst>
              <a:gd name="adj1" fmla="val 26152"/>
              <a:gd name="adj2" fmla="val 18779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es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1676520"/>
            <a:ext cx="2057400" cy="533160"/>
          </a:xfrm>
          <a:prstGeom prst="wedgeRectCallout">
            <a:avLst>
              <a:gd name="adj1" fmla="val -45291"/>
              <a:gd name="adj2" fmla="val 1044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a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962520"/>
            <a:ext cx="2057400" cy="990360"/>
          </a:xfrm>
          <a:prstGeom prst="wedgeRectCallout">
            <a:avLst>
              <a:gd name="adj1" fmla="val -38115"/>
              <a:gd name="adj2" fmla="val -104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ivederc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257800"/>
            <a:ext cx="2895840" cy="838080"/>
          </a:xfrm>
          <a:prstGeom prst="wedgeRoundRectCallout">
            <a:avLst>
              <a:gd name="adj1" fmla="val 37444"/>
              <a:gd name="adj2" fmla="val -108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a not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1828800"/>
            <a:ext cx="2819160" cy="762120"/>
          </a:xfrm>
          <a:prstGeom prst="wedgeRectCallout">
            <a:avLst>
              <a:gd name="adj1" fmla="val 57092"/>
              <a:gd name="adj2" fmla="val 931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venut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971800"/>
            <a:ext cx="2057400" cy="990720"/>
          </a:xfrm>
          <a:prstGeom prst="wedgeRectCallout">
            <a:avLst>
              <a:gd name="adj1" fmla="val 92902"/>
              <a:gd name="adj2" fmla="val -9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 viaggi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4191120"/>
            <a:ext cx="2667240" cy="1143000"/>
          </a:xfrm>
          <a:prstGeom prst="wedgeEllipseCallout">
            <a:avLst>
              <a:gd name="adj1" fmla="val 55537"/>
              <a:gd name="adj2" fmla="val 4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a giorna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3352680"/>
            <a:ext cx="2819160" cy="1447920"/>
          </a:xfrm>
          <a:prstGeom prst="wedgeEllipseCallout">
            <a:avLst>
              <a:gd name="adj1" fmla="val -27587"/>
              <a:gd name="adj2" fmla="val -1211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a sera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181480"/>
            <a:ext cx="2133360" cy="1295640"/>
          </a:xfrm>
          <a:prstGeom prst="wedgeRectCallout">
            <a:avLst>
              <a:gd name="adj1" fmla="val -79462"/>
              <a:gd name="adj2" fmla="val -88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edia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5486400"/>
            <a:ext cx="2667240" cy="1143000"/>
          </a:xfrm>
          <a:prstGeom prst="wedgeEllipseCallout">
            <a:avLst>
              <a:gd name="adj1" fmla="val 58749"/>
              <a:gd name="adj2" fmla="val -76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 appeti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259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238880" y="457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" y="4648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086600" y="47242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60948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38280" y="304920"/>
            <a:ext cx="441972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ongiorno, Mi chiamo Frances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ongior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o sono Sar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ivederci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o ho 70 anni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o sono una studente.  E t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 chiamo Paolo e ho 10 an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53341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44197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5053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25909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16765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09480" y="304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ndy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ndy"/>
              <a:ea typeface="Andy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38280" y="3581280"/>
            <a:ext cx="8384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ndy"/>
              </a:rPr>
              <a:t>1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ndy"/>
              <a:ea typeface="Andy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09680" y="19051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ndy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ndy"/>
              <a:ea typeface="Andy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905120"/>
            <a:ext cx="838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ndy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ndy"/>
              <a:ea typeface="Andy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86200" y="304920"/>
            <a:ext cx="762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ndy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ndy"/>
              <a:ea typeface="Andy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5000" y="2286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ndy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ndy"/>
              <a:ea typeface="Andy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96080" y="304920"/>
            <a:ext cx="685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ndy"/>
              </a:rPr>
              <a:t>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ndy"/>
              <a:ea typeface="Andy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057400" y="30492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ndy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ndy"/>
              <a:ea typeface="Andy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62520" y="1905120"/>
            <a:ext cx="685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ndy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ndy"/>
              <a:ea typeface="Andy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3581280"/>
            <a:ext cx="6858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ndy"/>
              </a:rPr>
              <a:t>1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ndy"/>
              <a:ea typeface="Andy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20120" y="1905120"/>
            <a:ext cx="685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ndy"/>
              </a:rPr>
              <a:t>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ndy"/>
              <a:ea typeface="Andy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1828800"/>
            <a:ext cx="685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ndy"/>
              </a:rPr>
              <a:t>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ndy"/>
              <a:ea typeface="Andy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96080" y="5181480"/>
            <a:ext cx="8384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66"/>
                </a:solidFill>
                <a:latin typeface="Andy"/>
              </a:rPr>
              <a:t>2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66"/>
              </a:solidFill>
              <a:latin typeface="Andy"/>
              <a:ea typeface="Andy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14800" y="3505320"/>
            <a:ext cx="838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66"/>
                </a:solidFill>
                <a:latin typeface="Andy"/>
              </a:rPr>
              <a:t>1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66"/>
              </a:solidFill>
              <a:latin typeface="Andy"/>
              <a:ea typeface="Andy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943600" y="5181480"/>
            <a:ext cx="8380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ndy"/>
              </a:rPr>
              <a:t>1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ndy"/>
              <a:ea typeface="Andy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438280" y="5257800"/>
            <a:ext cx="83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ndy"/>
              </a:rPr>
              <a:t>1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ndy"/>
              <a:ea typeface="Andy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96080" y="3581280"/>
            <a:ext cx="8384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ndy"/>
              </a:rPr>
              <a:t>1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ndy"/>
              <a:ea typeface="Andy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343400" y="5181480"/>
            <a:ext cx="8380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ndy"/>
              </a:rPr>
              <a:t>1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ndy"/>
              <a:ea typeface="Andy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43600" y="3429000"/>
            <a:ext cx="838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ndy"/>
              </a:rPr>
              <a:t>1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ndy"/>
              <a:ea typeface="Andy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62120" y="5334120"/>
            <a:ext cx="838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66"/>
                </a:solidFill>
                <a:latin typeface="Andy"/>
              </a:rPr>
              <a:t>1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66"/>
              </a:solidFill>
              <a:latin typeface="Andy"/>
              <a:ea typeface="Andy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7242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65530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3124080" y="1447920"/>
          <a:ext cx="282096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447920"/>
                    <a:ext cx="282096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04920" y="380880"/>
            <a:ext cx="8534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chnical"/>
              </a:rPr>
              <a:t>Che ore sono?</a:t>
            </a:r>
            <a:r>
              <a:rPr b="0" lang="en-US" sz="4000" spc="-1" strike="noStrike">
                <a:solidFill>
                  <a:srgbClr val="000000"/>
                </a:solidFill>
                <a:latin typeface="Technic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echnic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echnic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echnical"/>
              </a:rPr>
              <a:t>Che ora e’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362320"/>
            <a:ext cx="2590920" cy="1904760"/>
          </a:xfrm>
          <a:prstGeom prst="wedgeRoundRectCallout">
            <a:avLst>
              <a:gd name="adj1" fmla="val 49939"/>
              <a:gd name="adj2" fmla="val -66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le tre 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038480"/>
            <a:ext cx="3047760" cy="1981440"/>
          </a:xfrm>
          <a:prstGeom prst="wedgeRoundRectCallout">
            <a:avLst>
              <a:gd name="adj1" fmla="val 17865"/>
              <a:gd name="adj2" fmla="val -8405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le nove 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1447920"/>
            <a:ext cx="2362320" cy="2895480"/>
          </a:xfrm>
          <a:prstGeom prst="wedgeRoundRectCallout">
            <a:avLst>
              <a:gd name="adj1" fmla="val -63643"/>
              <a:gd name="adj2" fmla="val -187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le s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o cin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609480" y="685800"/>
          <a:ext cx="15940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15940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6553080" y="3962520"/>
          <a:ext cx="2097360" cy="21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3962520"/>
                    <a:ext cx="209736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248520" y="685800"/>
          <a:ext cx="2057400" cy="13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685800"/>
                    <a:ext cx="205740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876920" y="3809880"/>
            <a:ext cx="2590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un quar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1981080"/>
            <a:ext cx="3352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die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133720"/>
            <a:ext cx="35053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le n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666880"/>
            <a:ext cx="26668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le die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380880"/>
            <a:ext cx="32004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le cinque e v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1905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029200"/>
            <a:ext cx="4267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: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le otto meno un quar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0T03:31:20Z</dcterms:created>
  <dc:creator>Preferred Customer</dc:creator>
  <dc:description/>
  <dc:language>en-US</dc:language>
  <cp:lastModifiedBy>VALERIA PALLADINO</cp:lastModifiedBy>
  <dcterms:modified xsi:type="dcterms:W3CDTF">2003-10-16T15:22:57Z</dcterms:modified>
  <cp:revision>17</cp:revision>
  <dc:subject/>
  <dc:title>No Slide Title</dc:title>
</cp:coreProperties>
</file>